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815-8ECA-40E7-B482-289F182D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7DA-1591-4124-926D-44EC0958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3C3-367F-44CA-9644-A26ED97D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6DC-F418-4D8D-8216-ECC23121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ABF6-F69B-49A2-9EF0-6652D555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B03-F003-4C02-939D-E060D160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9D34-293F-4CC3-BBE2-F91A3F94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3818-791C-4D6F-8EEB-7BFFE175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857C-9BD5-4188-866B-E2397C44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9636-9C8E-4A00-836F-42305824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D4A5-6522-4311-B933-5679DAA4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8CF-B7A5-436D-B0E8-80F0033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E5DB-EBD4-4432-9E80-9DE3F264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BD68-77F4-4EC9-87E1-75821180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551A-7D2B-474C-BEE3-38C3976F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439E-8211-4BA9-8E4B-493BB425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EAC2-D403-4628-B15D-B190AC03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8A3-8038-4CCA-B576-325E9875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7AA-A520-458A-A2AC-A626924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E6D-D3CB-435E-8DEE-B5148D1A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F1B-E955-4C2D-8A6C-B2CF7E7F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756-A2A4-4DE0-8257-DE7108A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123-6D32-4210-87E7-264C344C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D71-1988-49D6-9BCC-87BE55B9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3EB9-E7D8-44F4-B903-FF5596D77F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EE65-F0DE-4BC2-B71C-253AE032D0F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（一）  练一练 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（一）  练一练 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500040" y="9288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买每种饮料的数量相同，单价和总价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14240" y="2000160"/>
          <a:ext cx="7643880" cy="1736640"/>
        </p:xfrm>
        <a:graphic>
          <a:graphicData uri="http://schemas.openxmlformats.org/drawingml/2006/table">
            <a:tbl>
              <a:tblPr/>
              <a:tblGrid>
                <a:gridCol w="1911600"/>
                <a:gridCol w="1909800"/>
                <a:gridCol w="1911240"/>
                <a:gridCol w="191124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饮料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纯净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冰绿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橙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单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瓶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37" name="Rectangle 2"/>
          <p:cNvSpPr/>
          <p:nvPr/>
        </p:nvSpPr>
        <p:spPr>
          <a:xfrm>
            <a:off x="571680" y="51436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下面是纯净水、冰绿茶的销售图，看图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Object 10"/>
          <p:cNvGraphicFramePr/>
          <p:nvPr/>
        </p:nvGraphicFramePr>
        <p:xfrm>
          <a:off x="3000240" y="4000680"/>
          <a:ext cx="32133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4000680"/>
                    <a:ext cx="3213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366840" y="4714920"/>
            <a:ext cx="877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 ）元，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 ）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 ）元，  （   ）瓶的总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瓶的总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214200" y="1000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1"/>
          <p:cNvSpPr/>
          <p:nvPr/>
        </p:nvSpPr>
        <p:spPr>
          <a:xfrm>
            <a:off x="2714760" y="46911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071720" y="942840"/>
            <a:ext cx="7338960" cy="38433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1"/>
          <p:cNvSpPr/>
          <p:nvPr/>
        </p:nvSpPr>
        <p:spPr>
          <a:xfrm>
            <a:off x="2928960" y="51195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1"/>
          <p:cNvSpPr/>
          <p:nvPr/>
        </p:nvSpPr>
        <p:spPr>
          <a:xfrm>
            <a:off x="785880" y="55720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1"/>
          <p:cNvSpPr/>
          <p:nvPr/>
        </p:nvSpPr>
        <p:spPr>
          <a:xfrm>
            <a:off x="7358040" y="47149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5214960" y="51436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928880" y="1071720"/>
            <a:ext cx="5743440" cy="4400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500040" y="52610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）元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的总价是（  ）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瓶的总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（ ）瓶的总价是（ ）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642960" y="10000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1"/>
          <p:cNvSpPr/>
          <p:nvPr/>
        </p:nvSpPr>
        <p:spPr>
          <a:xfrm>
            <a:off x="2786040" y="52624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1"/>
          <p:cNvSpPr/>
          <p:nvPr/>
        </p:nvSpPr>
        <p:spPr>
          <a:xfrm>
            <a:off x="6715080" y="52624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1"/>
          <p:cNvSpPr/>
          <p:nvPr/>
        </p:nvSpPr>
        <p:spPr>
          <a:xfrm>
            <a:off x="857160" y="5691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4929120" y="5691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1"/>
          <p:cNvSpPr/>
          <p:nvPr/>
        </p:nvSpPr>
        <p:spPr>
          <a:xfrm>
            <a:off x="7500960" y="5691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19"/>
          <p:cNvSpPr/>
          <p:nvPr/>
        </p:nvSpPr>
        <p:spPr>
          <a:xfrm flipV="1">
            <a:off x="2428200" y="1857240"/>
            <a:ext cx="3071880" cy="314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0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85880" y="1428840"/>
            <a:ext cx="3543120" cy="48560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3357720" y="133020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的圆周长约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计算结果为（     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357120" y="8571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图形，先估计圆周长，再计算。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7215120" y="1714680"/>
            <a:ext cx="121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357720" y="261612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的圆周长约为（  ）厘米，计算结果为（    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3357720" y="397368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的圆周长约为（  ）厘米，计算结果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071960" y="30002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071960" y="34750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4071960" y="43578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3714840" y="478620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3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714240" y="1143000"/>
            <a:ext cx="78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那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）：（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542916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10"/>
          <p:cNvGraphicFramePr/>
          <p:nvPr/>
        </p:nvGraphicFramePr>
        <p:xfrm>
          <a:off x="1071720" y="1601640"/>
          <a:ext cx="1469880" cy="13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601640"/>
                    <a:ext cx="146988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Rectangle 21"/>
          <p:cNvSpPr/>
          <p:nvPr/>
        </p:nvSpPr>
        <p:spPr>
          <a:xfrm>
            <a:off x="1979640" y="1500120"/>
            <a:ext cx="857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4:00:49Z</dcterms:created>
  <dc:creator/>
  <dc:description/>
  <dc:language>en-US</dc:language>
  <cp:lastModifiedBy/>
  <dcterms:modified xsi:type="dcterms:W3CDTF">2017-03-15T04:01:32Z</dcterms:modified>
  <cp:revision>1</cp:revision>
  <dc:subject/>
  <dc:title/>
</cp:coreProperties>
</file>